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884-DDA3-4F78-935E-622FF270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46C-C044-4206-B7F1-B965662A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07F-7F81-47E2-9183-0F4FC59E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C59-1105-45C2-945F-917D704C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741F-68BE-4278-B650-92C5B4E3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F60E-A848-4282-B89F-94BEBD6A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F772-88CF-4A6E-83EE-A5258C40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65EE-35CD-474E-A0B1-0364E85D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188E-288B-409C-A389-EF13EB17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F698-8043-4A4C-8917-78D625A5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2269-7131-42DF-8984-EC10555F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82A-F822-458D-B795-6B4351E8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1D51-3824-45DF-AE36-D23EB764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F2CE-3C68-4219-813C-9878D6C6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4C65-ECF7-4AFA-B81C-A1C83F38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6548-36D0-4D4B-B260-1EA09849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2524-4B8E-4023-AE9A-11221214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1254-6533-4AA4-9D78-6906B1E3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3A35-C51D-4850-8B00-DAFDF169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E47C-A6D3-47AA-A379-D258D919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F0CB-18AE-4F7E-A035-B48B1C03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5802-DEA3-4A48-8F39-A70961AC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575-A78F-4880-BB73-FA714F05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DB8B-3914-4586-BD5C-DF3B8E26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6E28D-CB9B-48B0-A04D-C1DC4B6D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807C-B1C0-45CD-A36B-BB7991C4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4E13-3676-446F-8512-AFD9EC7F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9287-2889-40B4-A4AA-4159C671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E65B-1106-4740-BFFE-3487EF81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FA2F-DC48-4D91-9DCD-53F34E13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8AD84-BF8F-41BE-8F3C-9E12CF99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3BEB4-AECD-46C7-8190-25E7C17D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6EC4-9B52-456A-B06A-128C80C7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32B-01D8-4729-A62D-97B2ACAA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E89C-CE4C-4871-9AE7-66A0791A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F1D7-56B7-4053-941B-3BF6AA0A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99EC-55EA-4159-8564-C54BBFEE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F24ED-23C5-4E0C-8622-FB2B2C93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DD17F-15BC-4DD8-9869-FAA5BC4F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04A0-AE42-41B1-9E57-1338797F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EE73E-87F2-4E0A-ACCD-F20B1E4D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31452-D990-460D-8F4A-3435A1B4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81BC-C33B-4A41-96DF-6DD599A8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D5625-568E-4ACC-BD3B-B5C9E14B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A6D-1FE9-4EB2-84CA-9E9A2DA9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00216-65D2-4BA8-9597-2199C316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8A2B7-9566-4B70-A3C4-44C5A261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D2DAA-937B-44AA-BC67-C5652AD2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432DE-01E3-4E41-9EFB-4ED84F12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2FCC4-0E96-41A8-879B-083FB226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D8807-C420-4762-9DFE-74756E1B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18D8C-0340-4389-8B81-F3B93C45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A475B-A80A-4510-8F52-145FCC93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3995C-A0D2-4F9F-B268-6F5EE537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C52A4-976B-4B8E-A3F6-831546CA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9AC-889B-41CB-9B2B-9F65007B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628F-F0B3-46BE-9C48-4F3C1E78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586AE-E94A-4373-BE05-EFABE14C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B774C-B647-4949-97ED-0B083B22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60E10-8AA7-4925-AB0D-42224F94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0000F-2190-4163-BF41-2EE706E2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8BA46-3D84-420B-98F4-DD783F25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E9644-EC2E-4022-A552-CB193D36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9CD1E-A025-43A5-900A-A55C7F36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18806-0617-4DB9-AF63-A0C3BFC4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C729A-7C8D-4966-8825-1CCB6430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8BF-FF6E-4EDE-853D-ECA2EBE5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DD5F0-7BEF-4D9E-AA1D-AEB2901F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84425-5969-4513-AA29-6CAAAE21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225FD-F3E0-4506-8CC7-2AD08C30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03B-AB48-4E73-90C7-F37BBF05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60A-B2C7-45F7-A69F-3E6B0043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9A7C-6907-4F32-8F07-B24A65DA71D4}" type="slidenum"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51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FF0D-94AE-42DF-97F0-28CCB80BD853}" type="slidenum"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5EAA-5812-46F2-9ECB-36D796F57F84}" type="slidenum"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6EC5-51A3-49FE-9EF9-F08B0FC86918}" type="slidenum"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DA0C-4960-4B92-8089-BC69BA011EB2}" type="slidenum"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21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681A-DF66-406F-BC38-E993975D2F48}" type="slidenum"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7058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572314"/>
                </a:solidFill>
                <a:latin typeface="Gill Sans MT"/>
              </a:rPr>
              <a:t>An e-Learning Strategy </a:t>
            </a:r>
            <a:br>
              <a:rPr sz="3900"/>
            </a:br>
            <a:r>
              <a:rPr b="1" lang="en-GB" sz="3900" spc="-1" strike="noStrike">
                <a:solidFill>
                  <a:srgbClr val="572314"/>
                </a:solidFill>
                <a:latin typeface="Gill Sans MT"/>
              </a:rPr>
              <a:t>to promote </a:t>
            </a:r>
            <a:br>
              <a:rPr sz="3900"/>
            </a:br>
            <a:r>
              <a:rPr b="1" i="1" lang="en-GB" sz="4400" spc="-1" strike="noStrike">
                <a:solidFill>
                  <a:srgbClr val="572314"/>
                </a:solidFill>
                <a:latin typeface="Gill Sans MT"/>
              </a:rPr>
              <a:t>technology enabled learning</a:t>
            </a:r>
            <a:r>
              <a:rPr b="1" lang="en-GB" sz="44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400"/>
            </a:br>
            <a:r>
              <a:rPr b="1" lang="en-GB" sz="44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1" lang="en-GB" sz="3900" spc="-1" strike="noStrike">
                <a:solidFill>
                  <a:srgbClr val="572314"/>
                </a:solidFill>
                <a:latin typeface="Gill Sans MT"/>
              </a:rPr>
              <a:t>n UCC</a:t>
            </a:r>
            <a:br>
              <a:rPr sz="3900"/>
            </a:br>
            <a:br>
              <a:rPr sz="2500"/>
            </a:br>
            <a:r>
              <a:rPr b="1" lang="en-GB" sz="2500" spc="-1" strike="noStrike">
                <a:solidFill>
                  <a:srgbClr val="572314"/>
                </a:solidFill>
                <a:latin typeface="Gill Sans MT"/>
              </a:rPr>
              <a:t>http://www.ucc.ie/en/onlinelearning/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550880" y="4869000"/>
            <a:ext cx="759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Gill Sans MT"/>
              </a:rPr>
              <a:t>Teaching &amp; Learning worksho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Gill Sans MT"/>
              </a:rPr>
              <a:t>30 October, 20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300" spc="-1" strike="noStrike">
                <a:solidFill>
                  <a:srgbClr val="572314"/>
                </a:solidFill>
                <a:latin typeface="Gill Sans MT"/>
              </a:rPr>
              <a:t>Miss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00000" y="2133720"/>
            <a:ext cx="8244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Create a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novative learning, teaching &amp; research environment using technology appropriately to improve access and engagement, enhance learning and stimulate innovative practic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577960" y="692280"/>
            <a:ext cx="640080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320e0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2314"/>
                </a:solidFill>
                <a:latin typeface="Gill Sans MT"/>
              </a:rPr>
              <a:t>EXAMPLES OF TECHNOLOGIES </a:t>
            </a:r>
            <a:br>
              <a:rPr sz="3600"/>
            </a:br>
            <a:r>
              <a:rPr b="1" lang="en-GB" sz="3600" spc="-1" strike="noStrike">
                <a:solidFill>
                  <a:srgbClr val="572314"/>
                </a:solidFill>
                <a:latin typeface="Gill Sans MT"/>
              </a:rPr>
              <a:t>TO ENHANCE LEARNING?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72314"/>
                </a:solidFill>
                <a:latin typeface="Gill Sans MT"/>
              </a:rPr>
              <a:t>Role of technology (examples</a:t>
            </a: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)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981000"/>
            <a:ext cx="749952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0" name="Object 2" descr=""/>
          <p:cNvPicPr/>
          <p:nvPr/>
        </p:nvPicPr>
        <p:blipFill>
          <a:blip r:embed="rId1"/>
          <a:stretch/>
        </p:blipFill>
        <p:spPr>
          <a:xfrm>
            <a:off x="1338120" y="831960"/>
            <a:ext cx="8325000" cy="1110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577960" y="692280"/>
            <a:ext cx="640080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320e0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72314"/>
                </a:solidFill>
                <a:latin typeface="Gill Sans MT"/>
              </a:rPr>
              <a:t>WHAT IS A LEARNING TECHNOLOGIST ?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44480" y="62028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f271c"/>
                </a:solidFill>
                <a:latin typeface="Calibri"/>
              </a:rPr>
              <a:t>Strateg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80280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Need to accommodate diversity in terms of both technology and staff engag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upport to achieve activity across existing and new programmes/stud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ntegrated set of pro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frastructure (physical network &amp; staff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apability buil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72314"/>
                </a:solidFill>
                <a:latin typeface="Gill Sans MT"/>
              </a:rPr>
              <a:t>Infrastructur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258920" y="692280"/>
          <a:ext cx="7634160" cy="5886360"/>
        </p:xfrm>
        <a:graphic>
          <a:graphicData uri="http://schemas.openxmlformats.org/drawingml/2006/table">
            <a:tbl>
              <a:tblPr/>
              <a:tblGrid>
                <a:gridCol w="3817800"/>
                <a:gridCol w="3816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s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 &amp; Expand V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sk Management proced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 new technolo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agogy &amp; Tech Helpde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 sandb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practice &amp; quality pol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policy – student catego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hiev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pability to scan the environment and adopt relevant technologies is key to ensuring an excellent learning environm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face for technical staff to interact with user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proactive &amp; rea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vironment where innovative academics and technical staff can interact and experim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s staff at all stages of programme developm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  <a:tr h="179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n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novative learning, teaching &amp; research environment using technology appropriately to improve access and engagement, enhance learning and stimulate innovative practi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4995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72314"/>
                </a:solidFill>
                <a:latin typeface="Gill Sans MT"/>
              </a:rPr>
              <a:t>Capability-Building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332000" y="549360"/>
          <a:ext cx="7634160" cy="5275080"/>
        </p:xfrm>
        <a:graphic>
          <a:graphicData uri="http://schemas.openxmlformats.org/drawingml/2006/table">
            <a:tbl>
              <a:tblPr/>
              <a:tblGrid>
                <a:gridCol w="3817800"/>
                <a:gridCol w="3816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s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gital literacy training for student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&amp;L training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matrix &amp; needs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 funded programme to launch new cour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hiev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eed to enhance capacity reflects not only the diverse use of technologies but also various levels of awareness, and indeed interest, in the use such technologi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ical support &amp; training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active &amp; reactive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  <a:tr h="179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n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novative learning, teaching &amp; research environment using technology appropriately to improve access and engagement, enhance learning and stimulate innovative practi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44480" y="260280"/>
            <a:ext cx="7499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Target – 18 new blended/distance learning courses over the next 3 years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80280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arning Technologi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New enabling technolog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askforce established (with the Registra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presentatives from Colleges &amp; ACE, LTU &amp; Ionad Bair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all for proposals very short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ve you and/or colleagues a new programm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577960" y="692280"/>
            <a:ext cx="640080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320e0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Have you and/or colleagues a new blended/distance learning programme?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4995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72314"/>
                </a:solidFill>
                <a:latin typeface="Gill Sans MT"/>
              </a:rPr>
              <a:t>Innovation in Teaching and Learning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332000" y="549360"/>
          <a:ext cx="7634160" cy="6342120"/>
        </p:xfrm>
        <a:graphic>
          <a:graphicData uri="http://schemas.openxmlformats.org/drawingml/2006/table">
            <a:tbl>
              <a:tblPr/>
              <a:tblGrid>
                <a:gridCol w="3817800"/>
                <a:gridCol w="3816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s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novative applications of new 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ols for searching, filtering &amp; classifying information available on the web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CC Student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ectronic publis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on of O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tional and International collabor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hiev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crease our presence and visibility across a range of academic disciplines and thus offer a range of research 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 active TEL Community in UCC can make a distinct intellectual footprint, at home and abr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e involvement in funded research programmes, contribution to open educational resources (OER) and key electronic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  <a:tr h="179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n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novative learning, teaching &amp; research environment using technology appropriately to improve access and engagement, enhance learning and stimulate innovative practi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Guiding Princip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771280" y="1447560"/>
            <a:ext cx="6162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edagogically l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Learner cent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echnology enabl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Dynamic capabilit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Support divers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44480" y="62028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The strategy aims to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80280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ncrease awareness of the role of techn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Promote appropriate adoption of techn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Build capability – pedagogy &amp; tech infrastruct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4480" y="333000"/>
            <a:ext cx="7499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72314"/>
                </a:solidFill>
                <a:latin typeface="Gill Sans MT"/>
              </a:rPr>
              <a:t>The benefits of implementing the e-learning strategy to UCC are many</a:t>
            </a: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: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strategic response to HEA policy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apacity to attract non-exchequer funding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rocess and system improvement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xpanded intellectual footprint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72314"/>
                </a:solidFill>
                <a:latin typeface="Gill Sans MT"/>
              </a:rPr>
              <a:t>Why UCC Cannot Neglect eLearning</a:t>
            </a: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: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7280" y="765000"/>
            <a:ext cx="7715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</a:rPr>
              <a:t>Restricted capability to respond to changing needs of existing students (e.g. a likely preference for blended learning among some postgraduate students) and school-leaver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</a:rPr>
              <a:t>Limited capability to attract new ‘mature students’ (e.g. part-time student demand for ‘career path programmes’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</a:rPr>
              <a:t>Lack of ability to capitalise on the growing demand for education in international marke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</a:rPr>
              <a:t>Loss of current position due to other HEIs at home and abroad investing in elearning – i.e. falling behind the curve and diminishing intellectual footpri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300" spc="-1" strike="noStrike">
                <a:solidFill>
                  <a:srgbClr val="572314"/>
                </a:solidFill>
                <a:latin typeface="Gill Sans MT"/>
              </a:rPr>
              <a:t>Miss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00000" y="2133720"/>
            <a:ext cx="8244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Create a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novative learning, teaching &amp; research environment using technology appropriately to improve access and engagement, enhance learning and stimulate innovative practic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72314"/>
                </a:solidFill>
                <a:latin typeface="Gill Sans MT"/>
              </a:rPr>
              <a:t>Goal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57360" indent="-5792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o provide a flexible, challenging and responsive </a:t>
            </a: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learning environment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57360" indent="-5792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o use technology to both assure and enhance </a:t>
            </a: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quality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in learning and teach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57360" indent="-5792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o support students and staff to adapt and adopt new </a:t>
            </a: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enabling technologies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57360" indent="-5792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o further development of </a:t>
            </a: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blended and distance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learning programm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57360" indent="-5792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o enhance UCC’s </a:t>
            </a: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intellectual footprint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300" spc="-1" strike="noStrike">
                <a:solidFill>
                  <a:srgbClr val="572314"/>
                </a:solidFill>
                <a:latin typeface="Gill Sans MT"/>
              </a:rPr>
              <a:t>Miss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900000" y="2133720"/>
            <a:ext cx="8244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Create a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novative learning, teaching &amp; research environment using technology appropriately to improve access and engagement, enhance learning and stimulate innovative practic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44480" y="62028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Document structure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3496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Strategic frame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44480" y="62028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Context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ing student profile and eng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ace of technological change and capabi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31640" y="691920"/>
            <a:ext cx="7499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72314"/>
                </a:solidFill>
                <a:latin typeface="Gill Sans MT"/>
              </a:rPr>
              <a:t>Context: Changing student profile and engagement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34960" y="1699920"/>
            <a:ext cx="7499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Digital natives and digital immigrant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50% increase in student numbers by 20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Only 25% of this will be school-lea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ost-experience 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72314"/>
                </a:solidFill>
                <a:latin typeface="Gill Sans MT"/>
              </a:rPr>
              <a:t>Context: Opportunitie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196640"/>
            <a:ext cx="7499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Hunt report emphasis 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ngagement of students with educ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ngagement of HEIs with the broader environment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capability to respond to opportunities presented in the current economic environmen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 many cases are dependent on a capacity to deliver TEL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72314"/>
                </a:solidFill>
                <a:latin typeface="Gill Sans MT"/>
              </a:rPr>
              <a:t>Context: </a:t>
            </a:r>
            <a:r>
              <a:rPr b="0" lang="en-GB" sz="2500" spc="-1" strike="noStrike">
                <a:solidFill>
                  <a:srgbClr val="572314"/>
                </a:solidFill>
                <a:latin typeface="Gill Sans MT"/>
              </a:rPr>
              <a:t>Pace of Technological Change and Capability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907920"/>
            <a:ext cx="7499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pace of technological change is of particular interest and in many respects this adds to the complexity that often characterises applica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apacity to scan for potential improvements and learn from the use of different technologies is of strategic valu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 clear sense of how technology enables learning and thus enhances the learning environment is of fundamental importanc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 order to ascertain the role of techn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2:09:13Z</dcterms:created>
  <dc:creator>Seamus O'Reilly</dc:creator>
  <dc:description/>
  <dc:language>en-US</dc:language>
  <cp:lastModifiedBy>Patrick Kiely</cp:lastModifiedBy>
  <dcterms:modified xsi:type="dcterms:W3CDTF">2012-10-31T16:55:19Z</dcterms:modified>
  <cp:revision>341</cp:revision>
  <dc:subject/>
  <dc:title>An e-Learning Strategy to promote Technology Enabled Learning in UC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6xHfEHgnQYpFqaudJXLpuJliR4FBNqQaisnm1uM6VJs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16153731258656880216</vt:lpwstr>
  </property>
  <property fmtid="{D5CDD505-2E9C-101B-9397-08002B2CF9AE}" pid="6" name="Google.Documents.RevisionId">
    <vt:lpwstr>00203821460865443682</vt:lpwstr>
  </property>
  <property fmtid="{D5CDD505-2E9C-101B-9397-08002B2CF9AE}" pid="7" name="Google.Documents.Tracking">
    <vt:lpwstr>true</vt:lpwstr>
  </property>
</Properties>
</file>