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B2A-A1D0-4FC5-A524-05619C3B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C8E1-38ED-4375-876C-8D4348EC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6BB-D9F9-4EA2-825A-39630DE2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AA38-2BF6-4BE9-869C-030CED6D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14D9-02A9-4C49-9F47-3E1A1FDF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5C22-31B1-49D5-BCA8-5E78C0B7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EEED-DECA-4107-9113-6D9473DD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0D37-7A31-4D2D-9BFA-7A791FF5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7418-5A55-4D21-85CF-E8896CA5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AFC4-BBAD-4393-A69A-BF1A3F2E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6E84-6863-48B5-A609-FB63A3F3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B69-4C8A-4089-9D57-9A58337B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A6D9-3DA7-481F-A0F8-CE577B44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E9D2-55A5-4FBE-9CA5-19B27190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AEC7-C024-4B1B-AC58-36AC468B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CF9A-110C-4810-8633-C81B4924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2FDD-8F75-4FF0-98A7-5A7FD57A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29500-EFBA-4FF3-A542-9FF37791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585D1-8B24-4EFF-8C73-8ACAA441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BDA42-C18B-4024-B131-703ED6CF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40C0E-1B6E-465C-95BD-0A0E8B0E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150D8-89CE-4E1E-ACE9-2D2DE978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8C3-B678-46B3-A43B-15B6BAC3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59121-E892-4943-B845-FC854BA1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A51BC-1D72-434E-8F27-A3E31C09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EF01C-BDCD-4456-BF82-5FD291C3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D3758-F536-4A5B-8B31-DCD47283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C665D-BFB3-467A-87F6-836662B0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6C03B-C687-4C17-9AF6-61182BA6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15333-577E-44B5-8743-95A9DCDE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80F2C-D4F2-4B6D-911F-7A19B0F4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1A1C8-5ADD-4EB6-9E5A-91568F79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F1D68-59C5-4BD1-BDBC-6761B1FA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10E-61C9-41D3-BB79-2F3B5B7F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A9913-8218-40C8-9C34-54B3B47B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D8A06-7704-4041-AEA2-558D46F4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7A048-1233-4E3C-BDB7-2D59DC46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D5B12-0FB0-4F4D-AB69-DF9D202A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1F7AC-075C-49F6-9C31-B43FB09E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95460-FE0E-4755-81A9-6A325D65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A4133-04A9-4F0C-A464-7232B6F8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5C871-140F-4609-968F-0933CCC8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9DFA5-07CB-4CD4-9C0C-FCF83C66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D5993-BBB2-46C8-B2A3-B2C505F6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5E80-D20E-46F3-B19E-643DFADA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A51EE-AED8-429E-AA0D-EE0A9A0E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910B3-B2EA-425B-B0E7-E1FB7173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3E113-16CC-469B-A5D2-9638E20F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93C55-A1A4-4444-999B-A45ECE55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AD4D2-1409-4738-8953-ACEE76C4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EDD4F-4498-45F8-BDEA-A47EB4C5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EC53F-2089-4E79-A52D-39D2DD48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30297-D07B-457F-BD33-6845431F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43682-8BF1-48B6-8A23-70C466C9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9112B-ED7F-402D-AFA5-0950A521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7848-D434-4CF9-BE51-94277416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9C6F1-BBD1-484D-A0E7-46685CE3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1D41F-F996-4993-A9D2-F96D4C07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5FA38-969C-4863-A40A-F220DFE4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6B49A-AF77-4DC2-A906-9172223E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BD53B-21FA-4F73-BE1A-1E60090E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9DA2B-E631-4C47-9BC4-CA92F6BC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7044F-6DD9-4188-A003-E9423CA3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358B6-7FA7-4676-8CFA-06019011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78671-AF1B-4B66-9CCA-133FF287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03489-EA8D-46C4-BE0A-4562DA81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6BC7-25D7-4353-85FB-8AC1C36A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D15CF-578F-4866-9DB2-5283AF32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86752-5B63-489F-94E7-31D7F507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D4C37-AF55-4265-A69F-AAAC792B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1C57-2031-4085-8188-8991D27F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E287-5DB3-4BC1-A02E-0D6D00ED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8E3C-22F3-4A9C-8E68-3B75938524F7}" type="slidenum"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51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D9E6-1DFB-4940-93B4-AD56FA634FF8}" type="slidenum"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8C43-46A7-4391-8850-676A39404396}" type="slidenum"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651A-45B3-438B-AEA8-0A8DBC98E397}" type="slidenum"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C798-0911-4DAD-B4A2-B6476E142D0F}" type="slidenum"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21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3AF3-37A2-4EE2-96C7-17FB265C09C3}" type="slidenum">
              <a:rPr b="0" lang="en-IE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7058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572314"/>
                </a:solidFill>
                <a:latin typeface="Gill Sans MT"/>
              </a:rPr>
              <a:t>An e-Learning Strategy </a:t>
            </a:r>
            <a:br>
              <a:rPr sz="3900"/>
            </a:br>
            <a:r>
              <a:rPr b="1" lang="en-GB" sz="3900" spc="-1" strike="noStrike">
                <a:solidFill>
                  <a:srgbClr val="572314"/>
                </a:solidFill>
                <a:latin typeface="Gill Sans MT"/>
              </a:rPr>
              <a:t>to promote </a:t>
            </a:r>
            <a:br>
              <a:rPr sz="3900"/>
            </a:br>
            <a:r>
              <a:rPr b="1" i="1" lang="en-GB" sz="4400" spc="-1" strike="noStrike">
                <a:solidFill>
                  <a:srgbClr val="572314"/>
                </a:solidFill>
                <a:latin typeface="Gill Sans MT"/>
              </a:rPr>
              <a:t>technology enabled learning</a:t>
            </a:r>
            <a:r>
              <a:rPr b="1" lang="en-GB" sz="44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4400"/>
            </a:br>
            <a:r>
              <a:rPr b="1" lang="en-GB" sz="4400" spc="-1" strike="noStrike">
                <a:solidFill>
                  <a:srgbClr val="572314"/>
                </a:solidFill>
                <a:latin typeface="Gill Sans MT"/>
              </a:rPr>
              <a:t>i</a:t>
            </a:r>
            <a:r>
              <a:rPr b="1" lang="en-GB" sz="3900" spc="-1" strike="noStrike">
                <a:solidFill>
                  <a:srgbClr val="572314"/>
                </a:solidFill>
                <a:latin typeface="Gill Sans MT"/>
              </a:rPr>
              <a:t>n UCC</a:t>
            </a:r>
            <a:br>
              <a:rPr sz="3900"/>
            </a:br>
            <a:br>
              <a:rPr sz="2500"/>
            </a:br>
            <a:r>
              <a:rPr b="1" lang="en-GB" sz="2500" spc="-1" strike="noStrike">
                <a:solidFill>
                  <a:srgbClr val="572314"/>
                </a:solidFill>
                <a:latin typeface="Gill Sans MT"/>
              </a:rPr>
              <a:t>http://www.ucc.ie/en/onlinelearning/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550880" y="4869000"/>
            <a:ext cx="7593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Gill Sans MT"/>
              </a:rPr>
              <a:t>Teaching &amp; Learning worksho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Gill Sans MT"/>
              </a:rPr>
              <a:t>30 October, 201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300" spc="-1" strike="noStrike">
                <a:solidFill>
                  <a:srgbClr val="572314"/>
                </a:solidFill>
                <a:latin typeface="Gill Sans MT"/>
              </a:rPr>
              <a:t>Miss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900000" y="2133720"/>
            <a:ext cx="8244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Create an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novative learning, teaching &amp; research environment using technology appropriately to improve access and engagement, enhance learning and stimulate innovative practic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2577960" y="692280"/>
            <a:ext cx="640080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320e0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72314"/>
                </a:solidFill>
                <a:latin typeface="Gill Sans MT"/>
              </a:rPr>
              <a:t>EXAMPLES OF TECHNOLOGIES </a:t>
            </a:r>
            <a:br>
              <a:rPr sz="3600"/>
            </a:br>
            <a:r>
              <a:rPr b="1" lang="en-GB" sz="3600" spc="-1" strike="noStrike">
                <a:solidFill>
                  <a:srgbClr val="572314"/>
                </a:solidFill>
                <a:latin typeface="Gill Sans MT"/>
              </a:rPr>
              <a:t>TO ENHANCE LEARNING?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72314"/>
                </a:solidFill>
                <a:latin typeface="Gill Sans MT"/>
              </a:rPr>
              <a:t>Role of technology (examples</a:t>
            </a:r>
            <a:r>
              <a:rPr b="0" lang="en-GB" sz="3500" spc="-1" strike="noStrike">
                <a:solidFill>
                  <a:srgbClr val="572314"/>
                </a:solidFill>
                <a:latin typeface="Gill Sans MT"/>
              </a:rPr>
              <a:t>)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981000"/>
            <a:ext cx="749952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0" name="Object 2" descr=""/>
          <p:cNvPicPr/>
          <p:nvPr/>
        </p:nvPicPr>
        <p:blipFill>
          <a:blip r:embed="rId1"/>
          <a:stretch/>
        </p:blipFill>
        <p:spPr>
          <a:xfrm>
            <a:off x="1338120" y="831960"/>
            <a:ext cx="8325000" cy="1110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577960" y="692280"/>
            <a:ext cx="640080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320e0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72314"/>
                </a:solidFill>
                <a:latin typeface="Gill Sans MT"/>
              </a:rPr>
              <a:t>WHAT IS A LEARNING TECHNOLOGIST ?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44480" y="62028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f271c"/>
                </a:solidFill>
                <a:latin typeface="Calibri"/>
              </a:rPr>
              <a:t>Strategy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80280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Need to accommodate diversity in terms of both technology and staff engage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upport to achieve activity across existing and new programmes/stud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Integrated set of pro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nfrastructure (physical network &amp; staff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apability buil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nnov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72314"/>
                </a:solidFill>
                <a:latin typeface="Gill Sans MT"/>
              </a:rPr>
              <a:t>Infrastructure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258920" y="692280"/>
          <a:ext cx="7634160" cy="5886360"/>
        </p:xfrm>
        <a:graphic>
          <a:graphicData uri="http://schemas.openxmlformats.org/drawingml/2006/table">
            <a:tbl>
              <a:tblPr/>
              <a:tblGrid>
                <a:gridCol w="3817800"/>
                <a:gridCol w="381636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s: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tain &amp; Expand V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sk Management proced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ort new technolog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dagogy &amp; Tech Helpde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ology sandb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 practice &amp; quality pol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policy – student catego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hiev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pability to scan the environment and adopt relevant technologies is key to ensuring an excellent learning environmen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erface for technical staff to interact with user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proactive &amp; rea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vironment where innovative academics and technical staff can interact and experimen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pports staff at all stages of programme developmen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</a:tr>
              <a:tr h="1795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an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novative learning, teaching &amp; research environment using technology appropriately to improve access and engagement, enhance learning and stimulate innovative practi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49952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72314"/>
                </a:solidFill>
                <a:latin typeface="Gill Sans MT"/>
              </a:rPr>
              <a:t>Capability-Building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332000" y="549360"/>
          <a:ext cx="7634160" cy="5275080"/>
        </p:xfrm>
        <a:graphic>
          <a:graphicData uri="http://schemas.openxmlformats.org/drawingml/2006/table">
            <a:tbl>
              <a:tblPr/>
              <a:tblGrid>
                <a:gridCol w="3817800"/>
                <a:gridCol w="381636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s: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gital literacy training for students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&amp;L training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matrix &amp; needs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 funded programme to launch new cour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hiev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eed to enhance capacity reflects not only the diverse use of technologies but also various levels of awareness, and indeed interest, in the use such technologi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ical support &amp; training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active &amp; reactive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</a:tr>
              <a:tr h="1794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an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novative learning, teaching &amp; research environment using technology appropriately to improve access and engagement, enhance learning and stimulate innovative practi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44480" y="260280"/>
            <a:ext cx="7499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72314"/>
                </a:solidFill>
                <a:latin typeface="Gill Sans MT"/>
              </a:rPr>
              <a:t>Target – 18 new blended/distance learning courses over the next 3 years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80280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earning Technologi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New enabling technolog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askforce established (with the Registra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presentatives from Colleges &amp; ACE, LTU &amp; Ionad Bair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all for proposals very short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ave you and/or colleagues a new programm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577960" y="692280"/>
            <a:ext cx="640080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320e0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572314"/>
                </a:solidFill>
                <a:latin typeface="Gill Sans MT"/>
              </a:rPr>
              <a:t>Have you and/or colleagues a new blended/distance learning programme?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49952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72314"/>
                </a:solidFill>
                <a:latin typeface="Gill Sans MT"/>
              </a:rPr>
              <a:t>Innovation in Teaching and Learning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332000" y="549360"/>
          <a:ext cx="7634160" cy="6342120"/>
        </p:xfrm>
        <a:graphic>
          <a:graphicData uri="http://schemas.openxmlformats.org/drawingml/2006/table">
            <a:tbl>
              <a:tblPr/>
              <a:tblGrid>
                <a:gridCol w="3817800"/>
                <a:gridCol w="381636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s: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novative applications of new con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ols for searching, filtering &amp; classifying information available on the web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CC Student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ectronic publis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on of O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tional and International collabor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hiev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crease our presence and visibility across a range of academic disciplines and thus offer a range of research opportun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 active TEL Community in UCC can make a distinct intellectual footprint, at home and abr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e involvement in funded research programmes, contribution to open educational resources (OER) and key electronic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>
                      <a:noFill/>
                    </a:lnB>
                    <a:solidFill>
                      <a:srgbClr val="feb80a">
                        <a:alpha val="20000"/>
                      </a:srgbClr>
                    </a:solidFill>
                  </a:tcPr>
                </a:tc>
              </a:tr>
              <a:tr h="1794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an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novative learning, teaching &amp; research environment using technology appropriately to improve access and engagement, enhance learning and stimulate innovative practi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eb80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Guiding Principl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771280" y="1447560"/>
            <a:ext cx="6162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Pedagogically l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Learner centr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echnology enabl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Dynamic capabilit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Support diversit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44480" y="62028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72314"/>
                </a:solidFill>
                <a:latin typeface="Gill Sans MT"/>
              </a:rPr>
              <a:t>The strategy aims to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80280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Increase awareness of the role of techn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Promote appropriate adoption of techn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Build capability – pedagogy &amp; tech infrastructu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4480" y="333000"/>
            <a:ext cx="7499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72314"/>
                </a:solidFill>
                <a:latin typeface="Gill Sans MT"/>
              </a:rPr>
              <a:t>The benefits of implementing the e-learning strategy to UCC are many</a:t>
            </a:r>
            <a:r>
              <a:rPr b="0" lang="en-GB" sz="3500" spc="-1" strike="noStrike">
                <a:solidFill>
                  <a:srgbClr val="572314"/>
                </a:solidFill>
                <a:latin typeface="Gill Sans MT"/>
              </a:rPr>
              <a:t>: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952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strategic response to HEA policy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apacity to attract non-exchequer funding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process and system improvement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xpanded intellectual footprint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740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72314"/>
                </a:solidFill>
                <a:latin typeface="Gill Sans MT"/>
              </a:rPr>
              <a:t>Why UCC Cannot Neglect eLearning</a:t>
            </a:r>
            <a:r>
              <a:rPr b="0" lang="en-GB" sz="3500" spc="-1" strike="noStrike">
                <a:solidFill>
                  <a:srgbClr val="572314"/>
                </a:solidFill>
                <a:latin typeface="Gill Sans MT"/>
              </a:rPr>
              <a:t>: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7280" y="765000"/>
            <a:ext cx="7715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</a:rPr>
              <a:t>Restricted capability to respond to changing needs of existing students (e.g. a likely preference for blended learning among some postgraduate students) and school-leaver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</a:rPr>
              <a:t>Limited capability to attract new ‘mature students’ (e.g. part-time student demand for ‘career path programmes’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</a:rPr>
              <a:t>Lack of ability to capitalise on the growing demand for education in international marke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Gill Sans MT"/>
              </a:rPr>
              <a:t>Loss of current position due to other HEIs at home and abroad investing in elearning – i.e. falling behind the curve and diminishing intellectual footprin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300" spc="-1" strike="noStrike">
                <a:solidFill>
                  <a:srgbClr val="572314"/>
                </a:solidFill>
                <a:latin typeface="Gill Sans MT"/>
              </a:rPr>
              <a:t>Miss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00000" y="2133720"/>
            <a:ext cx="8244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Create an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novative learning, teaching &amp; research environment using technology appropriately to improve access and engagement, enhance learning and stimulate innovative practic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72314"/>
                </a:solidFill>
                <a:latin typeface="Gill Sans MT"/>
              </a:rPr>
              <a:t>Goals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57360" indent="-5792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o provide a flexible, challenging and responsive </a:t>
            </a: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learning environment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57360" indent="-5792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o use technology to both assure and enhance </a:t>
            </a: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quality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in learning and teachin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57360" indent="-5792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o support students and staff to adapt and adopt new </a:t>
            </a: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enabling technologies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57360" indent="-5792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o further development of </a:t>
            </a: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blended and distance 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learning programm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57360" indent="-5792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o enhance UCC’s </a:t>
            </a:r>
            <a:r>
              <a:rPr b="1" lang="en-GB" sz="2800" spc="-1" strike="noStrike">
                <a:solidFill>
                  <a:srgbClr val="000000"/>
                </a:solidFill>
                <a:latin typeface="Gill Sans MT"/>
              </a:rPr>
              <a:t>intellectual footprint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300" spc="-1" strike="noStrike">
                <a:solidFill>
                  <a:srgbClr val="572314"/>
                </a:solidFill>
                <a:latin typeface="Gill Sans MT"/>
              </a:rPr>
              <a:t>Miss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900000" y="2133720"/>
            <a:ext cx="8244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Create an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novative learning, teaching &amp; research environment using technology appropriately to improve access and engagement, enhance learning and stimulate innovative practic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44480" y="62028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72314"/>
                </a:solidFill>
                <a:latin typeface="Gill Sans MT"/>
              </a:rPr>
              <a:t>Document structure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434960" y="1628280"/>
            <a:ext cx="749952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Strategic framewor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44480" y="62028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72314"/>
                </a:solidFill>
                <a:latin typeface="Gill Sans MT"/>
              </a:rPr>
              <a:t>Context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34960" y="1628280"/>
            <a:ext cx="749952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hanging student profile and eng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Opportunit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Pace of technological change and capabil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31640" y="691920"/>
            <a:ext cx="74991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72314"/>
                </a:solidFill>
                <a:latin typeface="Gill Sans MT"/>
              </a:rPr>
              <a:t>Context: Changing student profile and engagement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34960" y="1699920"/>
            <a:ext cx="74995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Digital natives and digital immigrants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50% increase in student numbers by 202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Only 25% of this will be school-lea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ost-experience edu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72314"/>
                </a:solidFill>
                <a:latin typeface="Gill Sans MT"/>
              </a:rPr>
              <a:t>Context: Opportunities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196640"/>
            <a:ext cx="7499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Hunt report emphasis 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engagement of students with educa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engagement of HEIs with the broader environment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he capability to respond to opportunities presented in the current economic environmen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n many cases are dependent on a capacity to deliver TEL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72314"/>
                </a:solidFill>
                <a:latin typeface="Gill Sans MT"/>
              </a:rPr>
              <a:t>Context: </a:t>
            </a:r>
            <a:r>
              <a:rPr b="0" lang="en-GB" sz="2500" spc="-1" strike="noStrike">
                <a:solidFill>
                  <a:srgbClr val="572314"/>
                </a:solidFill>
                <a:latin typeface="Gill Sans MT"/>
              </a:rPr>
              <a:t>Pace of Technological Change and Capability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34960" y="907920"/>
            <a:ext cx="7499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he pace of technological change is of particular interest and in many respects this adds to the complexity that often characterises applicat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apacity to scan for potential improvements and learn from the use of different technologies is of strategic value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 clear sense of how technology enables learning and thus enhances the learning environment is of fundamental importanc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n order to ascertain the role of technolog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2:09:13Z</dcterms:created>
  <dc:creator>Seamus O'Reilly</dc:creator>
  <dc:description/>
  <dc:language>en-US</dc:language>
  <cp:lastModifiedBy>Patrick Kiely</cp:lastModifiedBy>
  <dcterms:modified xsi:type="dcterms:W3CDTF">2012-10-31T16:55:19Z</dcterms:modified>
  <cp:revision>341</cp:revision>
  <dc:subject/>
  <dc:title>An e-Learning Strategy to promote Technology Enabled Learning in UC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6xHfEHgnQYpFqaudJXLpuJliR4FBNqQaisnm1uM6VJs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PreviousRevisionId">
    <vt:lpwstr>16153731258656880216</vt:lpwstr>
  </property>
  <property fmtid="{D5CDD505-2E9C-101B-9397-08002B2CF9AE}" pid="6" name="Google.Documents.RevisionId">
    <vt:lpwstr>00203821460865443682</vt:lpwstr>
  </property>
  <property fmtid="{D5CDD505-2E9C-101B-9397-08002B2CF9AE}" pid="7" name="Google.Documents.Tracking">
    <vt:lpwstr>true</vt:lpwstr>
  </property>
</Properties>
</file>